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CD74-B5AB-4465-A46B-FA0163AE4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D3D9-6876-4261-A68A-1C1FABC7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C55A-36FF-4838-ABFA-C9D9EF872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E7B7-19F4-4EED-9A6C-0C236949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C641-847E-4270-A5C1-D6568C07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8BD0-1E4A-42EF-827D-EA519BB4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05D1-E681-4550-A88B-B71A1F19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B2C3-A4C9-46D0-98E7-D36B5024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00AB-84CB-4BED-B8B3-43FDE229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260280"/>
            <a:ext cx="86421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FF31-5551-437D-825E-604C9ADD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8476-BC82-49D4-A8A3-5CBE651C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8F27-D2F5-4A35-9F99-284A3243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2CFA-7BD6-4CCF-8C6F-A9F3E3A2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4115-248B-4F36-9E31-BFE26F00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783B-4C84-48EE-8994-1BE8F7D5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2ADD-1938-4345-8B4D-8AE80DA29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3D28-7149-474C-BC77-0B155B53F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48DF-D2D7-42EC-8AAC-0FC86262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21C5-22A1-46BD-98FF-90F2C0EB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E615-9706-4908-8BE5-1608EFD7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260280"/>
            <a:ext cx="86421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7A88-6D05-42F5-8AC8-5BF09974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A9F5-986C-4872-88CA-82819942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7E86-28DB-4976-9E02-247870B2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508A-6084-42ED-B221-BCE4E0A6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3279-8CE8-4474-8297-3BCBE818B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E45A-E4C9-46CD-B881-88B79EB88653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4653000"/>
            <a:ext cx="8910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deralism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ivision of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1640" y="5662440"/>
            <a:ext cx="75531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apter 4, Section 1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merican government-Marotz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vernment Powers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ivision of Pow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3"/>
          <p:cNvSpPr/>
          <p:nvPr/>
        </p:nvSpPr>
        <p:spPr>
          <a:xfrm>
            <a:off x="1447920" y="2362320"/>
            <a:ext cx="350496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ational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4038480" y="2362320"/>
            <a:ext cx="350532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Stat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914400" y="4114800"/>
            <a:ext cx="72388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743200" y="1600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Grant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3048120" y="6172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Deni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581280" y="3276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current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76720" y="46483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nied Both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533520" y="1676520"/>
            <a:ext cx="8076960" cy="243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1447920" y="1523880"/>
            <a:ext cx="6095880" cy="19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nied Both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oth States and National have been denied these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iolate rights of citizen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vernment Powers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ivision of Pow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3"/>
          <p:cNvSpPr/>
          <p:nvPr/>
        </p:nvSpPr>
        <p:spPr>
          <a:xfrm>
            <a:off x="1447920" y="2362320"/>
            <a:ext cx="350496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ational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Oval 4"/>
          <p:cNvSpPr/>
          <p:nvPr/>
        </p:nvSpPr>
        <p:spPr>
          <a:xfrm>
            <a:off x="4038480" y="2362320"/>
            <a:ext cx="350532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Stat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7" name="Line 5"/>
          <p:cNvSpPr/>
          <p:nvPr/>
        </p:nvSpPr>
        <p:spPr>
          <a:xfrm>
            <a:off x="914400" y="4114800"/>
            <a:ext cx="72388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2743200" y="1600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Grant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3048120" y="6172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Deni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2286000" y="2590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elegated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4876920" y="2590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Reserved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581280" y="3276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current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3" name="AutoShape 11"/>
          <p:cNvSpPr/>
          <p:nvPr/>
        </p:nvSpPr>
        <p:spPr>
          <a:xfrm rot="1710600">
            <a:off x="1752120" y="25909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533520" y="1855800"/>
            <a:ext cx="198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xpress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mpli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nher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AutoShape 13"/>
          <p:cNvSpPr/>
          <p:nvPr/>
        </p:nvSpPr>
        <p:spPr>
          <a:xfrm rot="19782600">
            <a:off x="6477120" y="2514600"/>
            <a:ext cx="838080" cy="457200"/>
          </a:xfrm>
          <a:prstGeom prst="leftArrow">
            <a:avLst>
              <a:gd name="adj1" fmla="val 50000"/>
              <a:gd name="adj2" fmla="val 45827"/>
            </a:avLst>
          </a:prstGeom>
          <a:solidFill>
            <a:srgbClr val="ff1515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7162920" y="18288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10</a:t>
            </a:r>
            <a:r>
              <a:rPr b="0" lang="en-US" sz="1800" spc="-1" strike="noStrike" baseline="30000">
                <a:solidFill>
                  <a:srgbClr val="ff1515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 Amend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228600" y="5715000"/>
            <a:ext cx="213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enied Nationa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6705720" y="56530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Denied Stat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3276720" y="46483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nied Both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0" name="Text Box 19"/>
          <p:cNvSpPr/>
          <p:nvPr/>
        </p:nvSpPr>
        <p:spPr>
          <a:xfrm rot="20140800">
            <a:off x="74160" y="1295280"/>
            <a:ext cx="2438280" cy="459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c1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EXCLUSIVE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29"/>
          <p:cNvGrpSpPr/>
          <p:nvPr/>
        </p:nvGrpSpPr>
        <p:grpSpPr>
          <a:xfrm>
            <a:off x="2438280" y="838080"/>
            <a:ext cx="4343400" cy="2498760"/>
            <a:chOff x="2438280" y="838080"/>
            <a:chExt cx="4343400" cy="2498760"/>
          </a:xfrm>
        </p:grpSpPr>
        <p:pic>
          <p:nvPicPr>
            <p:cNvPr id="182" name="Picture 22" descr=""/>
            <p:cNvPicPr/>
            <p:nvPr/>
          </p:nvPicPr>
          <p:blipFill>
            <a:blip r:embed="rId1"/>
            <a:stretch/>
          </p:blipFill>
          <p:spPr>
            <a:xfrm>
              <a:off x="3200400" y="914400"/>
              <a:ext cx="2514600" cy="24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23" descr=""/>
            <p:cNvPicPr/>
            <p:nvPr/>
          </p:nvPicPr>
          <p:blipFill>
            <a:blip r:embed="rId2"/>
            <a:stretch/>
          </p:blipFill>
          <p:spPr>
            <a:xfrm>
              <a:off x="6019920" y="1447920"/>
              <a:ext cx="76176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24" descr=""/>
            <p:cNvPicPr/>
            <p:nvPr/>
          </p:nvPicPr>
          <p:blipFill>
            <a:blip r:embed="rId3"/>
            <a:stretch/>
          </p:blipFill>
          <p:spPr>
            <a:xfrm>
              <a:off x="2438280" y="1371600"/>
              <a:ext cx="76212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25" descr=""/>
            <p:cNvPicPr/>
            <p:nvPr/>
          </p:nvPicPr>
          <p:blipFill>
            <a:blip r:embed="rId4"/>
            <a:stretch/>
          </p:blipFill>
          <p:spPr>
            <a:xfrm>
              <a:off x="2895480" y="2209680"/>
              <a:ext cx="762120" cy="73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26" descr=""/>
            <p:cNvPicPr/>
            <p:nvPr/>
          </p:nvPicPr>
          <p:blipFill>
            <a:blip r:embed="rId5"/>
            <a:stretch/>
          </p:blipFill>
          <p:spPr>
            <a:xfrm>
              <a:off x="5410080" y="2286000"/>
              <a:ext cx="76212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27" descr=""/>
            <p:cNvPicPr/>
            <p:nvPr/>
          </p:nvPicPr>
          <p:blipFill>
            <a:blip r:embed="rId6"/>
            <a:stretch/>
          </p:blipFill>
          <p:spPr>
            <a:xfrm>
              <a:off x="4952880" y="914400"/>
              <a:ext cx="76212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28" descr=""/>
            <p:cNvPicPr/>
            <p:nvPr/>
          </p:nvPicPr>
          <p:blipFill>
            <a:blip r:embed="rId7"/>
            <a:stretch/>
          </p:blipFill>
          <p:spPr>
            <a:xfrm>
              <a:off x="3429000" y="838080"/>
              <a:ext cx="762120" cy="73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Supremacy Clause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rticle VI, Section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3352680" y="5943600"/>
            <a:ext cx="2210040" cy="642600"/>
          </a:xfrm>
          <a:prstGeom prst="rect">
            <a:avLst/>
          </a:prstGeom>
          <a:solidFill>
            <a:srgbClr val="ff1515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ity and County Law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191" name="Group 15"/>
          <p:cNvGrpSpPr/>
          <p:nvPr/>
        </p:nvGrpSpPr>
        <p:grpSpPr>
          <a:xfrm>
            <a:off x="3352680" y="4876920"/>
            <a:ext cx="2210040" cy="1066680"/>
            <a:chOff x="3352680" y="4876920"/>
            <a:chExt cx="2210040" cy="1066680"/>
          </a:xfrm>
        </p:grpSpPr>
        <p:sp>
          <p:nvSpPr>
            <p:cNvPr id="192" name="Text Box 6"/>
            <p:cNvSpPr/>
            <p:nvPr/>
          </p:nvSpPr>
          <p:spPr>
            <a:xfrm>
              <a:off x="3352680" y="4876920"/>
              <a:ext cx="2210040" cy="642600"/>
            </a:xfrm>
            <a:prstGeom prst="rect">
              <a:avLst/>
            </a:prstGeom>
            <a:solidFill>
              <a:srgbClr val="ff1515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State Statues (laws)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93" name="AutoShape 10"/>
            <p:cNvSpPr/>
            <p:nvPr/>
          </p:nvSpPr>
          <p:spPr>
            <a:xfrm>
              <a:off x="3962520" y="5486400"/>
              <a:ext cx="914400" cy="457200"/>
            </a:xfrm>
            <a:prstGeom prst="upArrow">
              <a:avLst>
                <a:gd name="adj1" fmla="val 60417"/>
                <a:gd name="adj2" fmla="val 52431"/>
              </a:avLst>
            </a:prstGeom>
            <a:solidFill>
              <a:srgbClr val="ffffff"/>
            </a:solidFill>
            <a:ln cap="sq"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grpSp>
        <p:nvGrpSpPr>
          <p:cNvPr id="194" name="Group 16"/>
          <p:cNvGrpSpPr/>
          <p:nvPr/>
        </p:nvGrpSpPr>
        <p:grpSpPr>
          <a:xfrm>
            <a:off x="3352680" y="3962520"/>
            <a:ext cx="2210040" cy="914400"/>
            <a:chOff x="3352680" y="3962520"/>
            <a:chExt cx="2210040" cy="914400"/>
          </a:xfrm>
        </p:grpSpPr>
        <p:sp>
          <p:nvSpPr>
            <p:cNvPr id="195" name="Text Box 7"/>
            <p:cNvSpPr/>
            <p:nvPr/>
          </p:nvSpPr>
          <p:spPr>
            <a:xfrm>
              <a:off x="3352680" y="3962520"/>
              <a:ext cx="2210040" cy="642600"/>
            </a:xfrm>
            <a:prstGeom prst="rect">
              <a:avLst/>
            </a:prstGeom>
            <a:solidFill>
              <a:srgbClr val="ff1515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State Constitutions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96" name="AutoShape 12"/>
            <p:cNvSpPr/>
            <p:nvPr/>
          </p:nvSpPr>
          <p:spPr>
            <a:xfrm>
              <a:off x="3962520" y="4419720"/>
              <a:ext cx="914400" cy="457200"/>
            </a:xfrm>
            <a:prstGeom prst="upArrow">
              <a:avLst>
                <a:gd name="adj1" fmla="val 60417"/>
                <a:gd name="adj2" fmla="val 52431"/>
              </a:avLst>
            </a:prstGeom>
            <a:solidFill>
              <a:srgbClr val="ffffff"/>
            </a:solidFill>
            <a:ln cap="sq"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grpSp>
        <p:nvGrpSpPr>
          <p:cNvPr id="197" name="Group 17"/>
          <p:cNvGrpSpPr/>
          <p:nvPr/>
        </p:nvGrpSpPr>
        <p:grpSpPr>
          <a:xfrm>
            <a:off x="3352680" y="2971800"/>
            <a:ext cx="2210040" cy="990720"/>
            <a:chOff x="3352680" y="2971800"/>
            <a:chExt cx="2210040" cy="990720"/>
          </a:xfrm>
        </p:grpSpPr>
        <p:sp>
          <p:nvSpPr>
            <p:cNvPr id="198" name="Text Box 8"/>
            <p:cNvSpPr/>
            <p:nvPr/>
          </p:nvSpPr>
          <p:spPr>
            <a:xfrm>
              <a:off x="3352680" y="2971800"/>
              <a:ext cx="2210040" cy="368280"/>
            </a:xfrm>
            <a:prstGeom prst="rect">
              <a:avLst/>
            </a:prstGeom>
            <a:solidFill>
              <a:srgbClr val="381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Acts of Congress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99" name="AutoShape 13"/>
            <p:cNvSpPr/>
            <p:nvPr/>
          </p:nvSpPr>
          <p:spPr>
            <a:xfrm>
              <a:off x="3962520" y="3505320"/>
              <a:ext cx="914400" cy="457200"/>
            </a:xfrm>
            <a:prstGeom prst="upArrow">
              <a:avLst>
                <a:gd name="adj1" fmla="val 60417"/>
                <a:gd name="adj2" fmla="val 52431"/>
              </a:avLst>
            </a:prstGeom>
            <a:solidFill>
              <a:srgbClr val="ffffff"/>
            </a:solidFill>
            <a:ln cap="sq"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grpSp>
        <p:nvGrpSpPr>
          <p:cNvPr id="200" name="Group 18"/>
          <p:cNvGrpSpPr/>
          <p:nvPr/>
        </p:nvGrpSpPr>
        <p:grpSpPr>
          <a:xfrm>
            <a:off x="3352680" y="1828800"/>
            <a:ext cx="2210040" cy="1143000"/>
            <a:chOff x="3352680" y="1828800"/>
            <a:chExt cx="2210040" cy="1143000"/>
          </a:xfrm>
        </p:grpSpPr>
        <p:sp>
          <p:nvSpPr>
            <p:cNvPr id="201" name="Text Box 9"/>
            <p:cNvSpPr/>
            <p:nvPr/>
          </p:nvSpPr>
          <p:spPr>
            <a:xfrm>
              <a:off x="3352680" y="1828800"/>
              <a:ext cx="2210040" cy="642600"/>
            </a:xfrm>
            <a:prstGeom prst="rect">
              <a:avLst/>
            </a:prstGeom>
            <a:solidFill>
              <a:srgbClr val="381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United States Constitution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02" name="AutoShape 14"/>
            <p:cNvSpPr/>
            <p:nvPr/>
          </p:nvSpPr>
          <p:spPr>
            <a:xfrm>
              <a:off x="3962520" y="2514600"/>
              <a:ext cx="914400" cy="457200"/>
            </a:xfrm>
            <a:prstGeom prst="upArrow">
              <a:avLst>
                <a:gd name="adj1" fmla="val 60417"/>
                <a:gd name="adj2" fmla="val 52431"/>
              </a:avLst>
            </a:prstGeom>
            <a:solidFill>
              <a:srgbClr val="ffffff"/>
            </a:solidFill>
            <a:ln cap="sq"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203" name="Text Box 19"/>
          <p:cNvSpPr/>
          <p:nvPr/>
        </p:nvSpPr>
        <p:spPr>
          <a:xfrm>
            <a:off x="5562720" y="228600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The U.S. Constitution is the </a:t>
            </a:r>
            <a:r>
              <a:rPr b="1" lang="ja-JP" sz="3600" spc="-1" strike="noStrike">
                <a:solidFill>
                  <a:srgbClr val="ff1515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1515"/>
                </a:solidFill>
                <a:latin typeface="Verdana"/>
              </a:rPr>
              <a:t>Supreme Law of the Land.</a:t>
            </a:r>
            <a:r>
              <a:rPr b="1" lang="ja-JP" sz="3600" spc="-1" strike="noStrike">
                <a:solidFill>
                  <a:srgbClr val="ff1515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685800" y="2819520"/>
            <a:ext cx="2057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f there is a conflict between a lower law and a higher one, the higher one </a:t>
            </a:r>
            <a:r>
              <a:rPr b="0" lang="ja-JP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wins.</a:t>
            </a:r>
            <a:r>
              <a:rPr b="0" lang="ja-JP" sz="18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vernment Powers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ivision of Pow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Oval 4"/>
          <p:cNvSpPr/>
          <p:nvPr/>
        </p:nvSpPr>
        <p:spPr>
          <a:xfrm>
            <a:off x="1447920" y="2362320"/>
            <a:ext cx="350496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ational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6" name="Oval 5"/>
          <p:cNvSpPr/>
          <p:nvPr/>
        </p:nvSpPr>
        <p:spPr>
          <a:xfrm>
            <a:off x="4038480" y="2362320"/>
            <a:ext cx="350532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Stat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7" name="Line 6"/>
          <p:cNvSpPr/>
          <p:nvPr/>
        </p:nvSpPr>
        <p:spPr>
          <a:xfrm>
            <a:off x="914400" y="4114800"/>
            <a:ext cx="72388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743200" y="1600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Grant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048120" y="6172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Deni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2286000" y="2590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elegated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4876920" y="2590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Reserved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3581280" y="3276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current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AutoShape 12"/>
          <p:cNvSpPr/>
          <p:nvPr/>
        </p:nvSpPr>
        <p:spPr>
          <a:xfrm rot="1710600">
            <a:off x="1752120" y="25909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533520" y="1855800"/>
            <a:ext cx="198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xpress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mpli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nher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AutoShape 14"/>
          <p:cNvSpPr/>
          <p:nvPr/>
        </p:nvSpPr>
        <p:spPr>
          <a:xfrm rot="19782600">
            <a:off x="6477120" y="2514600"/>
            <a:ext cx="838080" cy="457200"/>
          </a:xfrm>
          <a:prstGeom prst="leftArrow">
            <a:avLst>
              <a:gd name="adj1" fmla="val 50000"/>
              <a:gd name="adj2" fmla="val 45827"/>
            </a:avLst>
          </a:prstGeom>
          <a:solidFill>
            <a:srgbClr val="ff1515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7162920" y="18288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10</a:t>
            </a:r>
            <a:r>
              <a:rPr b="0" lang="en-US" sz="1800" spc="-1" strike="noStrike" baseline="30000">
                <a:solidFill>
                  <a:srgbClr val="ff1515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 Amend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228600" y="5715000"/>
            <a:ext cx="213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enied Nationa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6705720" y="56530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Denied Stat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3276720" y="46483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nied Both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vernment Powers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ivision of Pow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3"/>
          <p:cNvSpPr/>
          <p:nvPr/>
        </p:nvSpPr>
        <p:spPr>
          <a:xfrm>
            <a:off x="1447920" y="2362320"/>
            <a:ext cx="350496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ational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914400" y="4114800"/>
            <a:ext cx="4191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743200" y="1600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Grant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2286000" y="2590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elegated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AutoShape 11"/>
          <p:cNvSpPr/>
          <p:nvPr/>
        </p:nvSpPr>
        <p:spPr>
          <a:xfrm rot="1710600">
            <a:off x="1752120" y="25909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533520" y="1828800"/>
            <a:ext cx="198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xpress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mpli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nher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5562720" y="2057400"/>
            <a:ext cx="312408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Expressed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pelled out in the Constitu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rticle I, Section 18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18 clauses giving 27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Tax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Coin money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Regulate trad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Declare war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Grant patent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vernment Powers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ivision of Pow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1447920" y="2362320"/>
            <a:ext cx="350496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ational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914400" y="4114800"/>
            <a:ext cx="4191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743200" y="1600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Grant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286000" y="2590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elegated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3" name="AutoShape 7"/>
          <p:cNvSpPr/>
          <p:nvPr/>
        </p:nvSpPr>
        <p:spPr>
          <a:xfrm rot="1710600">
            <a:off x="1752120" y="25909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533520" y="1828800"/>
            <a:ext cx="198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xpress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mpli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nher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5562720" y="2057400"/>
            <a:ext cx="312408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Implied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Not written in Constitution, but reasonably suggest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rticle I, Section 18, Clause 18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necessary and proper</a:t>
            </a:r>
            <a:r>
              <a:rPr b="0" lang="ja-JP" sz="18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The Elastic Claus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Build dam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Highways &amp; road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Determine crim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vernment Powers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ivision of Pow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1447920" y="2362320"/>
            <a:ext cx="350496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ational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914400" y="4114800"/>
            <a:ext cx="4191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743200" y="1600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Grant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2286000" y="2590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elegated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1" name="AutoShape 7"/>
          <p:cNvSpPr/>
          <p:nvPr/>
        </p:nvSpPr>
        <p:spPr>
          <a:xfrm rot="1710600">
            <a:off x="1752120" y="25909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533520" y="1828800"/>
            <a:ext cx="198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xpress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mpli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nher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5562720" y="2057400"/>
            <a:ext cx="3124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Inherent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Not written in Constitution, but belong to national government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egulate immigra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Grant diplomatic recognition to nation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rotect the na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vernment Powers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ivision of Pow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3"/>
          <p:cNvSpPr/>
          <p:nvPr/>
        </p:nvSpPr>
        <p:spPr>
          <a:xfrm>
            <a:off x="1447920" y="2362320"/>
            <a:ext cx="350496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ational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914400" y="4114800"/>
            <a:ext cx="43434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048120" y="6172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Deni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228600" y="5715000"/>
            <a:ext cx="213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enied Nationa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5562720" y="2057400"/>
            <a:ext cx="33526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enied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Verdana"/>
              </a:rPr>
              <a:t>Expressly denied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nfringe on rights (speech, press, etc.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Verdana"/>
              </a:rPr>
              <a:t>Silence in Constitution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Only has delegated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Verdana"/>
              </a:rPr>
              <a:t>Denied in Federal System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an</a:t>
            </a:r>
            <a:r>
              <a:rPr b="0" lang="ja-JP" sz="18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t tax stat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vernment Powers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ivision of Pow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4"/>
          <p:cNvSpPr/>
          <p:nvPr/>
        </p:nvSpPr>
        <p:spPr>
          <a:xfrm>
            <a:off x="4038480" y="2362320"/>
            <a:ext cx="350532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Stat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3657600" y="4114800"/>
            <a:ext cx="44956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743200" y="1600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Grant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4876920" y="2590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Reserved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5" name="AutoShape 13"/>
          <p:cNvSpPr/>
          <p:nvPr/>
        </p:nvSpPr>
        <p:spPr>
          <a:xfrm rot="19782600">
            <a:off x="6477120" y="2514600"/>
            <a:ext cx="838080" cy="457200"/>
          </a:xfrm>
          <a:prstGeom prst="leftArrow">
            <a:avLst>
              <a:gd name="adj1" fmla="val 50000"/>
              <a:gd name="adj2" fmla="val 45827"/>
            </a:avLst>
          </a:prstGeom>
          <a:solidFill>
            <a:srgbClr val="ff1515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7162920" y="18288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10</a:t>
            </a:r>
            <a:r>
              <a:rPr b="0" lang="en-US" sz="1800" spc="-1" strike="noStrike" baseline="30000">
                <a:solidFill>
                  <a:srgbClr val="ff1515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 Amend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228600" y="2133720"/>
            <a:ext cx="312408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Reserved Powers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10</a:t>
            </a:r>
            <a:r>
              <a:rPr b="0" lang="en-US" sz="1800" spc="-1" strike="noStrike" baseline="30000">
                <a:solidFill>
                  <a:srgbClr val="ff1515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 Amend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Not granted to Federal, but not denied to states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  <a:ea typeface="ＭＳ Ｐゴシック"/>
              </a:rPr>
              <a:t>Legal marriage ag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  <a:ea typeface="ＭＳ Ｐゴシック"/>
              </a:rPr>
              <a:t>Drinking ag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  <a:ea typeface="ＭＳ Ｐゴシック"/>
              </a:rPr>
              <a:t>Professional licens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  <a:ea typeface="ＭＳ Ｐゴシック"/>
              </a:rPr>
              <a:t>Confiscate property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The power of the state to protect and promote public health, the public morals, the public safety, and the general welfare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vernment Powers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ivision of Pow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3"/>
          <p:cNvSpPr/>
          <p:nvPr/>
        </p:nvSpPr>
        <p:spPr>
          <a:xfrm>
            <a:off x="4038480" y="2362320"/>
            <a:ext cx="350532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Stat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3657600" y="4114800"/>
            <a:ext cx="44956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228600" y="2133720"/>
            <a:ext cx="37339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Denied States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Constitution denies certain powers to state, because they are NOT a federal government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  <a:ea typeface="ＭＳ Ｐゴシック"/>
              </a:rPr>
              <a:t>Make treaties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  <a:ea typeface="ＭＳ Ｐゴシック"/>
              </a:rPr>
              <a:t>Print money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  <a:ea typeface="ＭＳ Ｐゴシック"/>
              </a:rPr>
              <a:t>Deny rights to citizen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6705720" y="56530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Denied Stat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3048120" y="6172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Deni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vernment Powers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ivision of Pow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3"/>
          <p:cNvSpPr/>
          <p:nvPr/>
        </p:nvSpPr>
        <p:spPr>
          <a:xfrm>
            <a:off x="1447920" y="2362320"/>
            <a:ext cx="350496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ational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Oval 4"/>
          <p:cNvSpPr/>
          <p:nvPr/>
        </p:nvSpPr>
        <p:spPr>
          <a:xfrm>
            <a:off x="4038480" y="2362320"/>
            <a:ext cx="350532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Stat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914400" y="4114800"/>
            <a:ext cx="72388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2743200" y="1600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Grant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048120" y="6172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Deni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3581280" y="3276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current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3276720" y="46483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nied Both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2" name="Rectangle 19"/>
          <p:cNvSpPr/>
          <p:nvPr/>
        </p:nvSpPr>
        <p:spPr>
          <a:xfrm>
            <a:off x="533520" y="4114800"/>
            <a:ext cx="8076960" cy="243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1447920" y="4191120"/>
            <a:ext cx="60958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current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oth States and National have these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y be exercised separately and simultaneously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llect tax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fine crim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demn or take private property for public us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13:07:27Z</dcterms:created>
  <dc:creator>davidm</dc:creator>
  <dc:description/>
  <dc:language>en-US</dc:language>
  <cp:lastModifiedBy>olsonl olson</cp:lastModifiedBy>
  <dcterms:modified xsi:type="dcterms:W3CDTF">2016-04-12T18:57:43Z</dcterms:modified>
  <cp:revision>5</cp:revision>
  <dc:subject/>
  <dc:title>Federalism</dc:title>
</cp:coreProperties>
</file>